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FEB96B-3CA0-4081-9C23-860D681CBB5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43A850-19C6-4CD7-AA2A-58E25BD5E7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B2C55-3797-4AE7-8810-DBE9A7A49C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03651-2892-4FE6-A51D-861CE12609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D5D15-5C96-4BA3-9AE2-9BFA60BB4B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632A76-ED32-42FA-8C9D-9DA2E62D51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77A-2711-4295-AD49-D029C144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F1B7-CA66-457E-BA8B-3F8B50300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8DB-66E5-42D4-B2E5-F17FA700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113-4FEB-4D3C-8CFD-FA6E692E3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C9D5-A778-4F14-A935-A6BC30DAA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69A9-B6D3-4EB7-98F9-FB16BF42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23E7-9AFA-4118-B9D2-3A3B12FE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1D20-FBC5-4021-9EBB-C464788F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7A88-05F2-4BD1-B570-9CF805812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2112-CF6C-4158-BD7B-D9D7387F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D102-5C7C-4313-BA59-4A95241B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A5DD-D109-4F60-9993-57DF3D21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0E38BB-C72E-450D-9CDC-35B71A7035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F6065-2ECE-4146-A8FF-B9F42EC96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6"/>
          <p:cNvSpPr txBox="1"/>
          <p:nvPr/>
        </p:nvSpPr>
        <p:spPr>
          <a:xfrm>
            <a:off x="762120" y="1981080"/>
            <a:ext cx="762948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FINAL JEOPARDY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2175480" y="2436840"/>
            <a:ext cx="536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800" spc="-1" strike="noStrike">
                <a:solidFill>
                  <a:srgbClr val="646495"/>
                </a:solidFill>
                <a:latin typeface="Times New Roman"/>
              </a:rPr>
              <a:t>Life Cycles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17440" y="584280"/>
            <a:ext cx="8648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10253f"/>
                </a:solidFill>
                <a:latin typeface="Times New Roman"/>
              </a:rPr>
              <a:t>Write the number of points you wish to wager (up to your total amount of points) on a piece of paper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880920" y="584280"/>
            <a:ext cx="7299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646495"/>
                </a:solidFill>
                <a:latin typeface="Times New Roman"/>
              </a:rPr>
              <a:t>Of the animals studied during this program, this one is the most endangered.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0:52:41Z</dcterms:created>
  <dc:creator>Vernice Mulcahy</dc:creator>
  <dc:description/>
  <dc:language>en-US</dc:language>
  <cp:lastModifiedBy>Vernice Mulcahy</cp:lastModifiedBy>
  <dcterms:modified xsi:type="dcterms:W3CDTF">2009-12-08T00:59:22Z</dcterms:modified>
  <cp:revision>1</cp:revision>
  <dc:subject/>
  <dc:title>Slide 1</dc:title>
</cp:coreProperties>
</file>